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59068-C208-43B4-9E03-B7487C739CE7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8FEEE-188F-4CEC-B32A-C4E274339FE0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cuanto al interés por su formación en temas sobre espiritualidad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37% ha leído un libro sobre espiritualidad en el último añ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	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y el 55.6% ha leído algún artículo sobre el te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FAE57-EA32-4415-9C19-53DD7380FB4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n cuanto al acompañamiento familiar durante el óbito, sólo el 14.8% ha asistido al funeral de algún paciente, aunque el 40.7% ha dado el pésame en alguna ocasión por teléfo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01B4-E0B8-4827-BDBD-BAC96D2462B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relación con la actitud vit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70.3% opina que el contacto frecuente con la muerte de otras personas les modifica (bastante/mucho) la visión que tienen de la mis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Hasta tal punto que una gran mayoría, el 81.4%, manifiesta que les modifica bastante/mucho su forma de vivir la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07E92-FF10-46D3-A5FF-390F2538FD6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relación con la actitud vit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70.3% opina que el contacto frecuente con la muerte de otras personas les modifica (bastante/mucho) la visión que tienen de la mism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Hasta tal punto que una gran mayoría, el 81.4%, manifiesta que les modifica bastante/mucho su forma de vivir la vid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C91CC-9C14-4098-A38E-5633C3C7626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cuanto a la preparación para afrontar la muerte de sus pacientes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88.9% opina que durante sus  estudios formativos se les prepara insuficientemente (poco/muy poco) para afrontar la muerte</a:t>
            </a:r>
            <a:r>
              <a:rPr b="1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D4453-C0A0-4F37-8808-F4E2F764413F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endo una cifra nada desdeñable del</a:t>
            </a:r>
            <a:r>
              <a:rPr b="1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 29.6%, quienes se consideran muy poco o poco capacitados para ayudar a los demás con sus sentimientos de muerte y durante el proceso de mori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5794B-208C-460A-B225-A8BFF519919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Y para concluir, señalar 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Consideramos de interés el desarrollo de programas para la mejora del conocimiento y competencias en estos temas de los equipos que asisten a pacientes con enfermedades oncohematológic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7C235-D91C-4EC5-AA67-8BA1B4EC596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…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Y les dejo con esta frase de Elizabeth Murrain, para su reflex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C4F98-2C35-4CA8-AD65-70057C664E13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La muerte ha sido y es un tema de profunda reflexión y meditación, tanto desde las perspectivas filosófica y religiosa como científic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Así, el acercamiento a la muerte va a generar emociones y sentimientos de difícil manej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Y es claro pensar que la enfermedad oncológica también repercute en quienes les cuid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F1D84-2636-48A2-8DAF-EDCEE866D1E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Entre las funciones que tienen los profesionales se encuentra la de ayudar durante el tránsito de la vida a la muerte, tanto a los que padecen una enfermedad como a los seres queridos que lo rodean, que deben asumir y elaborar el due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En nuestro medio, sabemos que más del 70% de las personas que trabajan cuidando pacientes con cáncer considera importante estos tem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Pero se tiene un conocimiento ambiguo sobre cuál es la preparación y cuáles las actitudes que se adopta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A82F1-A9E5-4F7A-816E-48A763D50DC8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or ello, el objetivo de nuestro trabajo ha sid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Conocer datos sobre el sentir de los profesionales del equipo de salud ante el duelo y la muerte del paciente con cáncer hematológ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82FAC-3061-49A5-BF96-7536DBAD0125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emos realizado un estudio transversal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l que han participado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enfermer@s,  auxiliares de clínica y médic@s del área de oncología y hematología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 los que se les ha aplicado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un cuestionario sobre diversos aspectos de la muerte y su entor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8E7C-0AF0-4CCE-A937-4B5F88A80DEA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os resultados que hemos obtenido han sido los sigu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95BDF-E7ED-4B75-ADD1-65EDDC275AAE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Han participado </a:t>
            </a:r>
            <a:r>
              <a:rPr b="1" lang="es-ES" sz="1200" spc="-1" strike="noStrike">
                <a:solidFill>
                  <a:srgbClr val="3333ff"/>
                </a:solidFill>
                <a:latin typeface="Arial"/>
              </a:rPr>
              <a:t>27 profesionales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8 auxiliares de clínic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9 enfermer@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10 médic@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Con las siguientes característic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	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Sexo: 5 hombres y 22 mujer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Edad: 44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Estado civil: 55.6% casa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 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El 66.7% con hij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39A12-2206-4AC9-9EDB-C52C688CC4D9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70.4% ejercen la profesión desde hace más de 15 añ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Y e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</a:rPr>
              <a:t>l 81.5% han atendido pacientes fallecidos en el último año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E8BA3-984B-479A-9B80-D9EED2753881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reguntados por sus creenci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48.1% se considera religios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 </a:t>
            </a:r>
            <a:r>
              <a:rPr b="0" lang="es-ES" sz="12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y el 44.4% refiere haber rezado por algún paciente alguna vez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F6FDC-3E01-4135-92EB-157E93835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655D3-0283-48CA-80AE-E7A45A021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2E224-C2EA-4C7A-A639-8A01832BF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AFE18-F4EC-44A8-A8DF-7DD4DD5D2E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C438-7B22-493F-9849-778EE47DA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CB3C-B0AC-4832-9519-412CFE552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FBE-E1F1-47CD-968C-7C739B9E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8E04-265C-4CA5-BA97-BCA12B6EC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767DF-CED7-44A2-BB91-47407506C4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1A052-5BDC-4B91-9323-8E9306CB9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D843-7EDC-4311-8610-35B78C34A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9469-9148-44C2-B550-4E75BFA02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E92FA-B25D-4B0B-8365-7D51DCFEEF0C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Experiencias cercanas a la muerte"/>
          <p:cNvPicPr/>
          <p:nvPr/>
        </p:nvPicPr>
        <p:blipFill>
          <a:blip r:embed="rId1">
            <a:lum bright="70000" contrast="-70000"/>
          </a:blip>
          <a:srcRect l="30308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790560" y="398520"/>
            <a:ext cx="7526520" cy="59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ff"/>
                </a:solidFill>
                <a:latin typeface="Arial"/>
              </a:rPr>
              <a:t>EL SENTIR DE LOS PROFESIONALES ANTE LA MUERTE DE LOS PACIENTES CON CANCER HEMATOLOGIC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Antonia García Nie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Teresa Muño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Teresa Sasiá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Adoración Ledes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Lourdes Sola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Ana Rosa Corr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Nuria Lópe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6666"/>
                </a:solidFill>
                <a:latin typeface="Arial"/>
              </a:rPr>
              <a:t>Francisco Javier Capo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Grupo «Síndromes Linfoproliferativos» (PAIDI-CTS490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Fundación para la Gestión de la Investigación Biomédica de Cádiz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ff"/>
                </a:solidFill>
                <a:latin typeface="Arial"/>
              </a:rPr>
              <a:t>Hospital de Día Onco-Hematología. Hospital Puerta del Mar Cádiz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24000" cy="2365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3024000" cy="23763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4"/>
          <p:cNvSpPr/>
          <p:nvPr/>
        </p:nvSpPr>
        <p:spPr>
          <a:xfrm>
            <a:off x="430200" y="170172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LIB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5112000" y="1701720"/>
            <a:ext cx="423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ARTICUL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971640" y="4869000"/>
            <a:ext cx="71294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37% ha leído un libro sobre espiritualidad en el último a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l 55.6% ha leído un artículo sobre espiritualidad en el último añ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ESPIRITU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3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ACOMPAÑ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24000" cy="23652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952720" cy="2365200"/>
          </a:xfrm>
          <a:prstGeom prst="rect">
            <a:avLst/>
          </a:prstGeom>
          <a:ln w="0">
            <a:noFill/>
          </a:ln>
        </p:spPr>
      </p:pic>
      <p:sp>
        <p:nvSpPr>
          <p:cNvPr id="80" name="Text Box 6"/>
          <p:cNvSpPr/>
          <p:nvPr/>
        </p:nvSpPr>
        <p:spPr>
          <a:xfrm>
            <a:off x="430200" y="170172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FUNE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7"/>
          <p:cNvSpPr/>
          <p:nvPr/>
        </p:nvSpPr>
        <p:spPr>
          <a:xfrm>
            <a:off x="5112000" y="1701720"/>
            <a:ext cx="423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PESAM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8"/>
          <p:cNvSpPr/>
          <p:nvPr/>
        </p:nvSpPr>
        <p:spPr>
          <a:xfrm>
            <a:off x="971640" y="4869000"/>
            <a:ext cx="66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14.8% ha asistido al funeral de algún pac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40.7% ha dado el pésame en alguna ocasión por teléfon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rcRect l="0" t="0" r="0" b="4053"/>
          <a:stretch/>
        </p:blipFill>
        <p:spPr>
          <a:xfrm>
            <a:off x="971640" y="1773360"/>
            <a:ext cx="3024000" cy="23842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rcRect l="0" t="0" r="0" b="4053"/>
          <a:stretch/>
        </p:blipFill>
        <p:spPr>
          <a:xfrm>
            <a:off x="5651640" y="1773360"/>
            <a:ext cx="3024000" cy="23763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ACTITUD V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7"/>
          <p:cNvSpPr/>
          <p:nvPr/>
        </p:nvSpPr>
        <p:spPr>
          <a:xfrm>
            <a:off x="430200" y="170172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ANTE LA MU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8"/>
          <p:cNvSpPr/>
          <p:nvPr/>
        </p:nvSpPr>
        <p:spPr>
          <a:xfrm>
            <a:off x="5112000" y="1701720"/>
            <a:ext cx="423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ANTE LA VI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9"/>
          <p:cNvSpPr/>
          <p:nvPr/>
        </p:nvSpPr>
        <p:spPr>
          <a:xfrm>
            <a:off x="971640" y="4869000"/>
            <a:ext cx="770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70.3% opina que el contacto frecuente con la muerte de otras personas les modifica (bastante/mucho) la visión que tienen de la mis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81.4% manifiesta que les modifica bastante/mucho su forma de vivir la vi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 Box 4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¿Preparados para la muer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30200" y="170172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FAMLIA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6"/>
          <p:cNvSpPr/>
          <p:nvPr/>
        </p:nvSpPr>
        <p:spPr>
          <a:xfrm>
            <a:off x="5112000" y="1701720"/>
            <a:ext cx="423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PROPIA MUE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971640" y="4869000"/>
            <a:ext cx="770400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Sólo el 11.1% de los encuestados se encuentra preparado para  la muerte de sus familiares , aunque el 37% reconoce sí estarlo para la suya propi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8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24000" cy="236700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9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302400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3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PREPARACION AFRONTAR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903960" y="1341360"/>
            <a:ext cx="48528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ff"/>
                </a:solidFill>
                <a:latin typeface="Arial"/>
              </a:rPr>
              <a:t>ESTUDI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6"/>
          <p:cNvSpPr/>
          <p:nvPr/>
        </p:nvSpPr>
        <p:spPr>
          <a:xfrm>
            <a:off x="900000" y="580392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88.9% opina </a:t>
            </a: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que durante sus  estudios se les prepara insuficientemente (poco/muy poco) para afrontar la muerte</a:t>
            </a:r>
            <a:r>
              <a:rPr b="1" lang="es-E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8" descr=""/>
          <p:cNvPicPr/>
          <p:nvPr/>
        </p:nvPicPr>
        <p:blipFill>
          <a:blip r:embed="rId1"/>
          <a:srcRect l="0" t="0" r="0" b="5130"/>
          <a:stretch/>
        </p:blipFill>
        <p:spPr>
          <a:xfrm>
            <a:off x="1835280" y="1413000"/>
            <a:ext cx="5376600" cy="429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COMPETENCIA AYUD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903960" y="1341360"/>
            <a:ext cx="485280" cy="32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ff00ff"/>
                </a:solidFill>
                <a:latin typeface="Arial"/>
              </a:rPr>
              <a:t>PROCESO DE MORI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4"/>
          <p:cNvSpPr/>
          <p:nvPr/>
        </p:nvSpPr>
        <p:spPr>
          <a:xfrm>
            <a:off x="900000" y="580392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1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29.6% se considera muy poco o poco capacitado para ayudar a los demás con sus sentimientos de muerte y durante el proceso de mori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"/>
          <p:cNvPicPr/>
          <p:nvPr/>
        </p:nvPicPr>
        <p:blipFill>
          <a:blip r:embed="rId1"/>
          <a:srcRect l="0" t="0" r="0" b="5130"/>
          <a:stretch/>
        </p:blipFill>
        <p:spPr>
          <a:xfrm>
            <a:off x="1835280" y="1413000"/>
            <a:ext cx="5329080" cy="43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CONCLUS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3"/>
          <p:cNvSpPr/>
          <p:nvPr/>
        </p:nvSpPr>
        <p:spPr>
          <a:xfrm>
            <a:off x="1547640" y="1989000"/>
            <a:ext cx="59770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ＭＳ 明朝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ＭＳ 明朝"/>
              </a:rPr>
              <a:t>Consideramos de interés el desarrollo de programas para la mejora del conocimiento y competencias en estos temas de los equipos que asisten a pacientes con enfermedades oncohematológicas.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  <a:ea typeface="ＭＳ Ｐゴシック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835280" y="1413000"/>
            <a:ext cx="612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3600" spc="-1" strike="noStrike">
                <a:solidFill>
                  <a:srgbClr val="ff00ff"/>
                </a:solidFill>
                <a:latin typeface="Comic Sans MS"/>
              </a:rPr>
              <a:t>“</a:t>
            </a:r>
            <a:r>
              <a:rPr b="0" i="1" lang="es-ES" sz="3600" spc="-1" strike="noStrike">
                <a:solidFill>
                  <a:srgbClr val="ff00ff"/>
                </a:solidFill>
                <a:latin typeface="Comic Sans MS"/>
              </a:rPr>
              <a:t>La necesidad de entender y conocer lo que se siente, para poderlo abordar y aprovechar para fortalecer la esencia humana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3492360" y="5877000"/>
            <a:ext cx="50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800" spc="-1" strike="noStrike">
                <a:solidFill>
                  <a:srgbClr val="3333ff"/>
                </a:solidFill>
                <a:latin typeface="Arial"/>
              </a:rPr>
              <a:t>Elizabeth Murrain. La enfermería y la mue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5"/>
          <p:cNvSpPr/>
          <p:nvPr/>
        </p:nvSpPr>
        <p:spPr>
          <a:xfrm>
            <a:off x="684360" y="836640"/>
            <a:ext cx="7848360" cy="451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La muerte ha sido y es un tema de profunda reflexión y meditación, tanto desde las perspectivas filosófica y religiosa como cientí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El acercamiento a la muerte genera emociones y sentimientos de difícil manej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La enfermedad oncológica, por su cercanía a la muerte, también repercute en quienes por su profesión cuidan de pacientes y familiar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11280" y="836640"/>
            <a:ext cx="7848360" cy="52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Entre las funciones que tienen los profesionales se encuentra la de ayudar durante el tránsito de la vida a la muerte, tanto a los que padecen una enfermedad como a los seres queridos que lo rodean, que deben asumir y elaborar el due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Sabemos que más del 70% de las personas que trabajan cuidando pacientes con cáncer considera importante estos tem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Se tiene un conocimiento ambiguo sobre cuál es la preparación y cuáles las actitudes que se adopta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3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OBJETIV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4"/>
          <p:cNvSpPr/>
          <p:nvPr/>
        </p:nvSpPr>
        <p:spPr>
          <a:xfrm>
            <a:off x="538200" y="1484280"/>
            <a:ext cx="8066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Conocer datos sobre el sentir de los profesionales del equipo de salud ante el duelo y la muerte del paciente con cáncer hematológ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METO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538200" y="1484280"/>
            <a:ext cx="8066160" cy="309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Diseño: estudio transvers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Sujetos de estudio:  enfermer@s,  auxiliares de clínica y médic@s del área de oncología y hematologí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Aplicación de un cuestionario sobre diversos aspectos de la muerte y su entor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395280" y="2708280"/>
            <a:ext cx="8317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ff00ff"/>
                </a:solidFill>
                <a:latin typeface="Verdana"/>
              </a:rPr>
              <a:t>RESULTAD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PARTICIPAC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3"/>
          <p:cNvSpPr/>
          <p:nvPr/>
        </p:nvSpPr>
        <p:spPr>
          <a:xfrm>
            <a:off x="538200" y="1484280"/>
            <a:ext cx="8066160" cy="487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ff"/>
                </a:solidFill>
                <a:latin typeface="Verdana"/>
              </a:rPr>
              <a:t>27 profesionales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8 auxiliares de clínic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9 enfermer@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1600" spc="-1" strike="noStrike">
                <a:solidFill>
                  <a:srgbClr val="3333ff"/>
                </a:solidFill>
                <a:latin typeface="Verdana"/>
              </a:rPr>
              <a:t>10 médic@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1" lang="es-ES" sz="2800" spc="-1" strike="noStrike">
                <a:solidFill>
                  <a:srgbClr val="3333ff"/>
                </a:solidFill>
                <a:latin typeface="Verdana"/>
              </a:rPr>
              <a:t>Características socio-demográficas</a:t>
            </a:r>
            <a:r>
              <a:rPr b="0" lang="es-ES" sz="2800" spc="-1" strike="noStrike">
                <a:solidFill>
                  <a:srgbClr val="3333ff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Sexo: 5 hombres y 22 muje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Edad: 44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Estado civil: 55.6% cas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 </a:t>
            </a:r>
            <a:r>
              <a:rPr b="0" lang="es-ES" sz="2400" spc="-1" strike="noStrike">
                <a:solidFill>
                  <a:srgbClr val="3333ff"/>
                </a:solidFill>
                <a:latin typeface="Verdana"/>
              </a:rPr>
              <a:t>El 66.7% con hij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rcRect l="0" t="0" r="0" b="5130"/>
          <a:stretch/>
        </p:blipFill>
        <p:spPr>
          <a:xfrm>
            <a:off x="971640" y="1773360"/>
            <a:ext cx="3024000" cy="2376360"/>
          </a:xfrm>
          <a:prstGeom prst="rect">
            <a:avLst/>
          </a:prstGeom>
          <a:ln w="0">
            <a:noFill/>
          </a:ln>
        </p:spPr>
      </p:pic>
      <p:sp>
        <p:nvSpPr>
          <p:cNvPr id="60" name="Text Box 3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EJERCICIO PROFES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430200" y="170172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AÑOS DE PROFES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971640" y="4869000"/>
            <a:ext cx="66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70.4% ejercen la profesión desde hace más de 15 añ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Ｐゴシック"/>
              </a:rPr>
              <a:t>E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</a:rPr>
              <a:t>l 81.5% han atendido pacientes fallecidos en el último añ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8" descr=""/>
          <p:cNvPicPr/>
          <p:nvPr/>
        </p:nvPicPr>
        <p:blipFill>
          <a:blip r:embed="rId2"/>
          <a:srcRect l="0" t="0" r="38895" b="19693"/>
          <a:stretch/>
        </p:blipFill>
        <p:spPr>
          <a:xfrm>
            <a:off x="5651640" y="1760400"/>
            <a:ext cx="3024000" cy="23893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9"/>
          <p:cNvSpPr/>
          <p:nvPr/>
        </p:nvSpPr>
        <p:spPr>
          <a:xfrm>
            <a:off x="5112000" y="1701720"/>
            <a:ext cx="423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ATENCION FALLECIDO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3024000" cy="2365200"/>
          </a:xfrm>
          <a:prstGeom prst="rect">
            <a:avLst/>
          </a:prstGeom>
          <a:ln w="0">
            <a:noFill/>
          </a:ln>
        </p:spPr>
      </p:pic>
      <p:sp>
        <p:nvSpPr>
          <p:cNvPr id="66" name="Text Box 3"/>
          <p:cNvSpPr/>
          <p:nvPr/>
        </p:nvSpPr>
        <p:spPr>
          <a:xfrm>
            <a:off x="430200" y="1701720"/>
            <a:ext cx="42372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RELIGIOS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4"/>
          <p:cNvSpPr/>
          <p:nvPr/>
        </p:nvSpPr>
        <p:spPr>
          <a:xfrm>
            <a:off x="412920" y="476280"/>
            <a:ext cx="83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00ff"/>
                </a:solidFill>
                <a:latin typeface="Verdana"/>
              </a:rPr>
              <a:t>RELIGIOS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2"/>
          <a:stretch/>
        </p:blipFill>
        <p:spPr>
          <a:xfrm>
            <a:off x="5651640" y="1773360"/>
            <a:ext cx="2881080" cy="2376360"/>
          </a:xfrm>
          <a:prstGeom prst="rect">
            <a:avLst/>
          </a:prstGeom>
          <a:ln w="0">
            <a:noFill/>
          </a:ln>
        </p:spPr>
      </p:pic>
      <p:sp>
        <p:nvSpPr>
          <p:cNvPr id="69" name="Text Box 6"/>
          <p:cNvSpPr/>
          <p:nvPr/>
        </p:nvSpPr>
        <p:spPr>
          <a:xfrm>
            <a:off x="5112000" y="1701720"/>
            <a:ext cx="42372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ff"/>
                </a:solidFill>
                <a:latin typeface="Arial"/>
              </a:rPr>
              <a:t>REZA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7"/>
          <p:cNvSpPr/>
          <p:nvPr/>
        </p:nvSpPr>
        <p:spPr>
          <a:xfrm>
            <a:off x="971640" y="4869000"/>
            <a:ext cx="66247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48.1% se considera religios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 </a:t>
            </a:r>
            <a:r>
              <a:rPr b="0" lang="es-ES" sz="1800" spc="-1" strike="noStrike">
                <a:solidFill>
                  <a:srgbClr val="3333ff"/>
                </a:solidFill>
                <a:latin typeface="Arial"/>
                <a:ea typeface="ＭＳ 明朝"/>
              </a:rPr>
              <a:t>El 44.4% refiere haber rezado por algún paci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8T13:12:34Z</dcterms:created>
  <dc:creator>Usuario</dc:creator>
  <dc:description/>
  <dc:language>en-US</dc:language>
  <cp:lastModifiedBy>Usuario</cp:lastModifiedBy>
  <dcterms:modified xsi:type="dcterms:W3CDTF">2012-10-16T12:57:02Z</dcterms:modified>
  <cp:revision>80</cp:revision>
  <dc:subject/>
  <dc:title>Diapositiva 1</dc:title>
</cp:coreProperties>
</file>